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EC27-0E80-4939-A634-7F92D0F76E29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5779-5E5E-43C4-A910-327FFF8B6D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460-792D-4CE9-A46A-29EC597F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313-57A7-46A7-87F0-3D6697E5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79D65-A507-4EC3-916E-6E1EC171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7447D-72FE-460B-BD5F-864A07CE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A3881-68CF-4C75-9906-DE36F616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A2620-AC00-4BA7-B730-EC16030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0FDE8-B1BC-4A15-B07D-0AC40517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D64AF-6445-4ED7-8BFA-4563BEE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EA42F-E27D-4F76-B588-6A759573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7B026-5917-411B-AA2E-0139198E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17D19-420A-4A06-A824-A901E74A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BAAE3-0A3A-4AD9-8EFE-9FB71FAB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267-7164-41ED-B111-6734FB1C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74916-DB07-456B-A546-59D9D160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33E61-D197-46D0-BCEE-3E3641F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90A70-FC10-4512-81EC-FD27566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B41BC-C328-47FF-8E3A-F7BB96A4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6E465-E3F2-4270-BF46-12F90B6B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FB8FE-1FFE-4C77-9F80-BBD20DEC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40BB9-43B6-47DF-B499-0472A0DE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C13AE-A99C-418E-83DA-042056A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C3EB9-08C2-470D-BC1A-DD3AE39A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806E1-087E-4F92-8ADA-362005CF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83B-D7FC-410D-923E-5B50FCE7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BB89C-1497-4DE7-B316-648C4BBA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49E09-B14E-4C11-B3E5-BDC42480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1DA1E-86DC-4E84-B186-04E9C3EB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A41FB-55B1-4606-A946-FA11FD13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32D14-1825-45DD-AF39-B595CF6F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25AF2-D59E-493A-8515-4E83939B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A5C84-7F60-4BAF-A88C-C36CE149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E214C-2A37-4F05-BFDE-D2E6B0AE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C2E08-907E-4381-8A65-C05895F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CDA2A-DEA8-4242-BC68-528C1184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0E00-1DC6-4A89-8A18-C8447F25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8BA97-8FB3-451C-AE39-BEB4ECCC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70909-438A-46B3-BD18-AD558C77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CB67B-367E-4A43-A30C-B73AFD0F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6CC99-E9EE-4DB4-845D-1592B99C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F1C5B-50F2-4B3D-84FC-36685E37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DBF8F-8275-4F9F-9A3C-DA4AF44D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EAB00-5CD6-411D-939C-57AA01CC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3E6D4-88C0-4943-988D-242B2D7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41737-97AA-4163-BAF5-6E63EAF8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21998-781A-4490-9009-BF3D4CA5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020C-FE5D-4D3B-B78F-ACA994DE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BCCA8-0E39-4633-99B0-E1741CB3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B7E9B-6DD7-4E15-9C08-02F50149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B2F3A-E362-40DB-B43B-0A27C612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A40CF-5A35-4983-BBB0-5F54DDD4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A40F7-FCC9-4EA0-8575-2C8D5D4E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49C43-CF61-4A4B-98E7-E4010E09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9A27D-0AAF-40D1-8ABC-15ED5B6C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B4A94-E13A-4A26-BF39-2C114CA8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B7A3E-2547-4257-9673-029F88A5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0A4C5-7149-41C2-8A1C-1D93D394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3A1E-A717-4BBF-8D9E-BD80C158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3BACA-E6CC-47E3-9F3F-491A6951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69E88-C022-4322-999D-EE37D258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EEF17-D8FA-4259-9236-2D58662D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388A2-804B-41EC-9D0C-7C855F4F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7EAE6-8B0F-4908-92A5-FB325754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5E0A7-00E7-4297-9574-2C5FC6A7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F32FE-543C-41E5-A4C7-FC15937C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4F1E9-25CA-4CD2-8435-F4E53248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6A404-444C-4D84-A44C-A5C8EFA1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C11F3-91E1-4815-8953-BE5D2579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DA63-8303-400A-AAF2-B0CE1ACE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88751-DF07-457A-AA96-374BE7E9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EE3D2-0184-42F0-8DBF-46299AC1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B377F-A2DA-4DD3-BBE3-043A4C2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3C004-AE44-43E1-934D-8E45963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64C50-5A26-4572-9B5F-AB00F4AA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0B38F-63E4-45F6-A669-5F24DC19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420F6-C86E-4D31-939F-ED597E9A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1322D-2007-40E7-97E1-AF66B640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EC4B4-9F6D-46D8-BCD2-21A18451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4359C-2BB7-4B1E-AAE4-1380DBD9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CBD0-A674-4E91-8CF3-5665E667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D7EA2-8BC3-48E1-9FB2-8B0A77B2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DFFDD0-4E79-4593-B7D5-1284ACB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E8609-ED4B-47D1-93CF-9082567C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741AE-E2A8-4FD0-BD21-58D378B3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E811C-B8CB-4C09-8ECB-B964AA85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8D7A2-6438-4339-95E9-42528C32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1A75B-E0A1-48BB-A57A-26E91A87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F340D-5E77-4BC3-960B-919671B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2B94E-D71B-4FDE-835D-4B9A8D43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1B99D-34C2-4694-A565-A6430EAE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DC5E-4DCD-4703-B985-1F6FC9D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F94CD-A4C3-47A3-95E6-B934C1A8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F15C9-ECB0-4694-97F7-305693B7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478D0-9767-476A-8023-B99166AE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DCF43-1C0D-4CC9-A7BF-44933326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CF5CE-5891-4456-BD4D-AC4E3C3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6D738-EFEF-4C29-9090-D1041AB6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9DD19-08BC-45F5-8A91-CE2F8136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C2D3B-1CF3-40F5-AB48-700E427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EB32D-420C-47C5-BFBA-4F54B1D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9CE52-5587-4403-AE22-93FB48BD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D5B1-AD8E-4063-AA06-7365F49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E1058-6DA0-4DD6-ACFD-D513CCEC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F13D5-DC7E-422E-BC04-A501D431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C99AD-2A39-46E9-8098-A1A5788E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67D216-9D0A-46A1-B5F6-8FD59262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2F64B-D02A-46BA-A5B4-48E270F4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1D58B-3F25-4E1B-90DB-555AD0B0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E5BB3-B61B-4191-AAC5-1B2CDF90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0AC9A-4018-4CC3-8803-22F9EB4F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1D1CC-371D-4DF5-9C65-ABFF9C70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0EC04-2235-4E77-8900-09D8BD2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962-16CC-441E-83F8-828E0FE8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507E-6D16-4ACF-8763-1D8C4FB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29A41-613C-49E9-B571-D939DB5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51F160-2EF1-444D-B800-FC575595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FEC18-50F4-4097-A6C8-591CEF7A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3BD45-9D73-4A9A-8DD0-E6EA05EF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D3F0C-21F7-4F3F-84EA-A5CA723D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22069-9673-4833-A038-E8602FAB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1C094E-940F-49DD-AF6D-D61F6274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8DD9C4-1EA2-4620-8E3A-A7A3DF5C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3F02F-BC2D-4F80-A9B0-4D3C34F9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FC42B-B2C1-4C87-A39D-8BF6933D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CFF6-7F2A-439B-A672-E46609B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C4152-7E37-4873-93CE-EE2928CC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E67E0A-ADF3-43C8-B823-6D3A66F8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913A02-1C54-4088-8EAE-F3DD77CF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60581-2C65-43F9-9DE3-680BEF49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6A4184-2BF9-46A5-860C-7955602E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4E507-B9A0-49D8-9F56-5D311669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38BAAF-7642-441A-9E24-E875477A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EE3111-5E5F-48FC-9258-7A4922EF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5B72B-8906-418D-944E-7A06A37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97506-DAFB-4D15-B8DA-4D4349C1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8CD7-9D59-4B6C-8A93-484EEEEA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8F5CD-346B-4F5F-9585-7A9F91DB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5A1540-C438-4C71-9B01-A7419AB2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61CE8-EB2A-4563-871C-B09383E0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B9FFC-63AD-481C-9504-F3FC54E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16920-E0DC-4A45-936E-E7667946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8436A8-8442-4C82-91DB-19015CF0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B02E6-D23B-494D-949A-64219E13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EE860B-A4B6-403D-AB8F-58A9F743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5ECD3-0ABA-429D-81C9-E4585DA1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416D-856E-443F-B84B-20DF34FD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3780-697C-4663-8ABB-892474D7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9357E-279A-4725-8F7A-036CD13B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1BDE-5899-4393-BCDE-D86CC20A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275A-FFCB-481C-8002-7B0FFA25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E186-0EA6-45B1-9BBD-21E8940E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7418-DDC3-4972-B1D9-1191AFA2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AAB-2550-4EB9-844D-72F068A3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4B28-5D83-4CDB-8713-38BCE75C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FC8B-5BFF-487E-A093-89308B0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FC724-2A7E-422A-A729-99C1C95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B1DD-0FC2-4C70-A63C-23D48505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1668-441B-41F8-8B20-C19954A8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AA1E-5143-481C-BF2D-F9D172D0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5640-E6CB-471A-ACA0-774D2165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1336-73AC-4046-8868-B21D1845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43875-98AD-49AB-BF72-F373B4BF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2F876-4070-4438-B1CB-C179C4F8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FF6-6B16-4AE2-B94E-B62244D0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BB96-E81D-419D-AADD-CB893838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94665-7C94-4408-A998-E58F64A4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2C9F-1674-49EB-AFFB-8A5E8056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7DCE-A978-4320-8A96-86005855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4E5F-2656-4BC8-BE32-1B11033D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882E-4844-415A-A147-2BCD44B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BFD6-3DD4-407E-8B79-3D21039D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2DC8E-E702-4FC0-9721-E428100F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19FB8-A537-49FF-A312-98105162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62556-1F5B-4F50-AF14-FC1EBBF7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ACC-FB28-407C-8ABE-36E57266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6749-C395-45FD-9A3F-638936A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DFD3-F9CB-4EA4-BC97-03E7E444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C83B8-1612-40FC-9A2E-EB5A666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F788D-A193-4661-A586-5A8E74A4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7D1FA-2331-46E6-B7BA-36EACE3A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77A15-1895-4CE6-A475-6527C45B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7DD7A-A6C3-4C0B-8F99-D8F4441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6DB64-2529-494A-A104-03BE3D5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B44FA-DFED-45AC-88E8-E0952805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95A51-96DE-4D7D-8142-15884250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E8F-D7BE-42BD-9A78-9C76593E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8CCE-E7F6-452A-BDD7-0B37CEF6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8A2C-BBB9-42F0-8FA9-12E1A005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3A71D-89C0-4954-A7C2-056365F1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2C5F4-7ECA-49AA-852F-44FA5D9E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E31F-2A39-4C9D-93BC-069F99F3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3714A-4F7D-4B4D-AAB4-C3840676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9783-A9BD-473E-9803-38CDA5A2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756A-4F43-4330-AA62-96B6927E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7AE48-BE9B-491E-845A-1F554C6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61C9B-D43C-423C-8BCD-B64D3A5E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7F0-36BF-4E2E-A79B-77DF7A6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2739B-5E71-483A-9B16-1E7040CB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43758-2E64-456A-8E26-2735793A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11A46-BB6F-40F0-9055-1B2E588F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B2E71-7999-4171-807B-116BFA50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96502-5548-47B1-A01D-AFD5C8DC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B63A4-249B-468A-9AC4-39FBCA2C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ED8EA-E773-49C1-8289-0E8E00E0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425AB-3D93-4FEA-8248-787C8281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AFA0-EB3F-4C96-B3C3-58CCEF43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0706-A600-4A85-A514-A733431F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34D-6F21-4FDA-B3C8-2BE9EC34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1814-3B5D-4F17-A034-E208233F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5157C-450C-47B1-A5B2-19785FF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81076-C794-4DEB-9D68-39D4B2AC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59104-814F-4B48-B174-06D767DF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DC3E8-16A1-46D6-8082-5B256F5B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C342F-CE00-4DE6-AF81-2104C4DE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26BAA-B7C9-4F93-9597-39B31605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02C08-99B7-4D2C-ABA1-0EA7632E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22D7C-598C-417D-B22D-4E89A1D6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DE9C1-586D-48D4-ADD8-9D5319AF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C96-82A3-4C6E-8391-C978344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91C21-4511-4874-B343-C27CD08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84EBC-88BD-447F-90D4-3F12342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7BF63-E8F8-4245-BB55-823C226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223FE-4D22-48CD-B7D6-60636726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D3C11-119B-4306-9EBB-64E4A4A9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06534-C6F8-424B-99B1-DC9A67B5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169BB-6570-4158-84AC-18DEF77C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98C0D-6B34-4D9D-B6FC-00C5FDAF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28396-3D89-438A-B6C5-8203F87B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C3498-570E-4284-8594-732A148C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5112-1C7B-423B-9BC2-A944F3E2F2E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C918-3A99-4EA7-9894-776303EEF3F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2C06-1E41-4BF8-8F28-6F064BEFB5E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20E0-1C88-48E8-B3B0-42A0206D9A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012F-BFEA-4BCD-9DCD-798D2AA725E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B825-5A93-4071-9B4C-A5A5A39756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C990-70D6-4574-A1A8-9D3F73060F2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F820-6705-49AF-8B2D-3B998F4A76F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9204-C343-447C-BBE7-59B5C1CE7B7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ACF7-5DDA-4400-BEEA-D4E246EFCD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B0A0-4720-4C5D-9A6D-832CD84C2E8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7EA2-A73A-4A6E-968D-33B2E4AF3C8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9F09-D0AD-461D-88D4-358026117B9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08E-B957-4D77-AE1C-9F644370B7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CD56-8AF1-488B-8B3E-D3FE3FB3242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34D6-2E91-4FC7-96F9-E53D5006325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43A6-7381-44CE-BED7-894E464D956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255-EFE1-428F-ADF3-8A9D80A36F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21F4-14AA-4563-955F-9CCCC171722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52AE-A62D-477F-B6B4-533243AF510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2710-F2E7-46D1-B30D-26FD2CFB586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43D-6B18-466F-8CD7-5E94CE61A3B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FE68-96B7-4F90-B9AB-08587538B37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1435-5C1B-4AAC-A9FE-E14BB3F1E0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8D03-AF1A-4C54-ACC5-D427F4E49F9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DBA4-A89C-41C7-AF64-CCFD0B17DD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F43A-B1DB-44B6-A93F-92870ADDABB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999B-9594-4608-8B14-6C2C8A911A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5684-2F4B-4CFF-B55F-AD16DD5B01F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3C75-1194-4FFD-A66E-F6FEA9CBE1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7CD-C85B-4FE0-B9A0-437FD76D43C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3B2E-AB52-4662-9A3B-EE6EC2F9299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44E8-5647-42A0-BB8A-5EB1F1B343D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A4E9-B4FD-457A-8252-074A888BA9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663A-E625-4E07-90E3-37A3060A731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5DA4-C1F4-4AA2-80E2-257EFEEF6CB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445C-6A18-49BA-955B-CFFA8881980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A0F9-DB19-4B08-BC31-F7F0B544DE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67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68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1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72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Imagen 2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283280" cy="6097680"/>
          </a:xfrm>
          <a:prstGeom prst="rect">
            <a:avLst/>
          </a:prstGeom>
          <a:ln w="0">
            <a:noFill/>
          </a:ln>
        </p:spPr>
      </p:pic>
      <p:sp>
        <p:nvSpPr>
          <p:cNvPr id="901" name="Cuadro de texto 3"/>
          <p:cNvSpPr/>
          <p:nvPr/>
        </p:nvSpPr>
        <p:spPr>
          <a:xfrm>
            <a:off x="3995640" y="1916280"/>
            <a:ext cx="1584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Cuadro de texto 4"/>
          <p:cNvSpPr/>
          <p:nvPr/>
        </p:nvSpPr>
        <p:spPr>
          <a:xfrm>
            <a:off x="2050920" y="1341360"/>
            <a:ext cx="12956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5"/>
          <p:cNvSpPr/>
          <p:nvPr/>
        </p:nvSpPr>
        <p:spPr>
          <a:xfrm>
            <a:off x="2340000" y="2565360"/>
            <a:ext cx="86184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Cuadro de texto 6"/>
          <p:cNvSpPr/>
          <p:nvPr/>
        </p:nvSpPr>
        <p:spPr>
          <a:xfrm>
            <a:off x="1692360" y="184464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7"/>
          <p:cNvSpPr/>
          <p:nvPr/>
        </p:nvSpPr>
        <p:spPr>
          <a:xfrm>
            <a:off x="4788000" y="2205000"/>
            <a:ext cx="1800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8"/>
          <p:cNvSpPr/>
          <p:nvPr/>
        </p:nvSpPr>
        <p:spPr>
          <a:xfrm>
            <a:off x="3492360" y="3789360"/>
            <a:ext cx="2592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9"/>
          <p:cNvSpPr/>
          <p:nvPr/>
        </p:nvSpPr>
        <p:spPr>
          <a:xfrm>
            <a:off x="3274920" y="4149720"/>
            <a:ext cx="1584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Cuadro de texto 10"/>
          <p:cNvSpPr/>
          <p:nvPr/>
        </p:nvSpPr>
        <p:spPr>
          <a:xfrm>
            <a:off x="3708360" y="630252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0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1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12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15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7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18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30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B3DB-91EA-4A92-96F4-34D8F6F4E09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3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611280" y="444600"/>
            <a:ext cx="799308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CF13-98E3-4912-9DBA-BAFB948116F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468360" y="341280"/>
            <a:ext cx="820728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2D44-FBA1-44C1-94F4-C16B5C4A9CA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sp>
        <p:nvSpPr>
          <p:cNvPr id="938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DA9B-B877-49C2-B733-468E313E83C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1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42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A3DA-529B-453D-BE50-1A62465C01D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468360" y="331920"/>
            <a:ext cx="8136000" cy="6140160"/>
          </a:xfrm>
          <a:prstGeom prst="rect">
            <a:avLst/>
          </a:prstGeom>
          <a:ln w="0">
            <a:noFill/>
          </a:ln>
        </p:spPr>
      </p:pic>
      <p:sp>
        <p:nvSpPr>
          <p:cNvPr id="946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FF55-C6D3-48EA-B0CC-A7A57715607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2124000" y="187200"/>
            <a:ext cx="504036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832E-E467-4EDE-8C2E-26BDD9BEF7E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1"/>
          <a:stretch/>
        </p:blipFill>
        <p:spPr>
          <a:xfrm>
            <a:off x="22320" y="260280"/>
            <a:ext cx="5508360" cy="6513480"/>
          </a:xfrm>
          <a:prstGeom prst="rect">
            <a:avLst/>
          </a:prstGeom>
          <a:ln w="0">
            <a:noFill/>
          </a:ln>
        </p:spPr>
      </p:pic>
      <p:sp>
        <p:nvSpPr>
          <p:cNvPr id="953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a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57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60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3" name="4 Conector recto de flecha"/>
          <p:cNvCxnSpPr>
            <a:stCxn id="958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64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2951-0D22-4525-B4E3-0D23EC628D5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2" descr=""/>
          <p:cNvPicPr/>
          <p:nvPr/>
        </p:nvPicPr>
        <p:blipFill>
          <a:blip r:embed="rId1"/>
          <a:stretch/>
        </p:blipFill>
        <p:spPr>
          <a:xfrm>
            <a:off x="708120" y="458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968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2C20-EA3C-4DAC-8AAC-2163FFFAB47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5114880" cy="6375240"/>
          </a:xfrm>
          <a:prstGeom prst="rect">
            <a:avLst/>
          </a:prstGeom>
          <a:ln w="0">
            <a:noFill/>
          </a:ln>
        </p:spPr>
      </p:pic>
      <p:sp>
        <p:nvSpPr>
          <p:cNvPr id="972" name="2 CuadroTexto"/>
          <p:cNvSpPr/>
          <p:nvPr/>
        </p:nvSpPr>
        <p:spPr>
          <a:xfrm>
            <a:off x="5275440" y="438120"/>
            <a:ext cx="3617640" cy="67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BF4B-8A32-4FED-86AA-935FB9F60AA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sa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AD4F-6E5E-4BA9-A8F5-89422FE9DAF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BE5C-0F5A-4CB2-98C9-C00FFF6A1C9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12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79F-94AC-4424-83F1-54EC86194E3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18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0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21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29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31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3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04BC-60F1-4FA6-99CE-85065EEA46F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5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42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ángulo 8"/>
          <p:cNvSpPr/>
          <p:nvPr/>
        </p:nvSpPr>
        <p:spPr>
          <a:xfrm>
            <a:off x="990720" y="21337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ángulo 9"/>
          <p:cNvSpPr/>
          <p:nvPr/>
        </p:nvSpPr>
        <p:spPr>
          <a:xfrm>
            <a:off x="4191120" y="21337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3" name="Imagen 11" descr=""/>
          <p:cNvPicPr/>
          <p:nvPr/>
        </p:nvPicPr>
        <p:blipFill>
          <a:blip r:embed="rId1"/>
          <a:stretch/>
        </p:blipFill>
        <p:spPr>
          <a:xfrm>
            <a:off x="3505320" y="2724120"/>
            <a:ext cx="5346720" cy="3737160"/>
          </a:xfrm>
          <a:prstGeom prst="rect">
            <a:avLst/>
          </a:prstGeom>
          <a:ln w="0">
            <a:noFill/>
          </a:ln>
        </p:spPr>
      </p:pic>
      <p:sp>
        <p:nvSpPr>
          <p:cNvPr id="854" name="Rectángulo 12"/>
          <p:cNvSpPr/>
          <p:nvPr/>
        </p:nvSpPr>
        <p:spPr>
          <a:xfrm>
            <a:off x="3505320" y="3809880"/>
            <a:ext cx="221904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Línea 15"/>
          <p:cNvSpPr/>
          <p:nvPr/>
        </p:nvSpPr>
        <p:spPr>
          <a:xfrm flipH="1" flipV="1">
            <a:off x="2742840" y="2590920"/>
            <a:ext cx="76212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Rectángulo 16"/>
          <p:cNvSpPr/>
          <p:nvPr/>
        </p:nvSpPr>
        <p:spPr>
          <a:xfrm>
            <a:off x="230040" y="221148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ínea 17"/>
          <p:cNvSpPr/>
          <p:nvPr/>
        </p:nvSpPr>
        <p:spPr>
          <a:xfrm flipH="1">
            <a:off x="761760" y="2438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Preferred Customer</cp:lastModifiedBy>
  <cp:lastPrinted>2012-05-07T21:30:02Z</cp:lastPrinted>
  <dcterms:modified xsi:type="dcterms:W3CDTF">2012-05-08T18:58:26Z</dcterms:modified>
  <cp:revision>21</cp:revision>
  <dc:subject/>
  <dc:title>Presentación de PowerPoint</dc:title>
</cp:coreProperties>
</file>